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532-B8F6-48D9-8C03-946CFD7E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319-1DBE-41B8-80E5-1525C6E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E29-45EC-4F33-9C3A-E851FDE3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274-2D91-44EF-B4A4-2BB4D28A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639-CB72-4772-B72A-10BFE99B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FC56-45B0-463F-BCD6-9C077BF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DE0B-1B10-443C-8245-E72DBFD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D4B2-436E-4055-A835-FF38C30D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27A1-54CF-47A0-B475-A7C67598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EF7A-0366-47FA-9DFF-F24851C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D18B-81BB-4125-A10D-DDAA068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294-AE69-46F7-867D-F3BC4117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0F6A-0C17-4CCE-9386-E502AC2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AA9B-0CD5-4378-83EB-90C797E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5FF8-CBA2-4636-90FE-E4329FE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E09-0637-4840-A3F6-A1FE2993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892D-989B-4575-8A2E-35B6904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B47-7529-44A9-925D-3D8BA1A5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A74-DE0D-4DCD-BD3A-1B001BD6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E2C-F8EC-4A7E-BEC0-E121F28E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86A-8034-489C-9EAA-BB16A72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896-15DC-4BA5-90D1-BB595BD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227-0772-4F7D-A249-CEFF96A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140-78EA-414C-A361-85E9D2E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DFC-10C0-433D-9C7B-0067CFF46D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19F-5CEF-4E04-9ED9-550CDF87BA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зударная гласная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емая ударе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272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А»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Д…МО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83808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Т…Я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838080" y="47242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М…ЛЫШ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10552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Ч…СО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10552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ОД…РИЛИ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51055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К…ВР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676520" y="4648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5867280" y="27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24480" y="3657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зударная гласная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емая ударе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425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О»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ЗАП…Х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838080" y="3733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Н…СИЛЬЩ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83808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Л…ДОВАЯ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1055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…ЖАЮТ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10552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Б…ЛЬНИЦА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105520" y="4648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В…ЛЧИХ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1600200" y="3733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867280" y="3733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5867280" y="4572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зударная гласная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емая ударе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Е»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ГР…БНОЙ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83808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…Ж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838080" y="4724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ИН…СЛИ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105520" y="28195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АТ…ХАЮТ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029200" y="3733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Л…НЕЙК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1055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Л…СНИК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523880" y="3733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2362320" y="4648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5867280" y="4648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зударная гласная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емая ударе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И»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ЦВ…Т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83808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Н…Ж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38080" y="4800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ЗАКР…ЧАЛ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10552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Р…Ч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105520" y="3809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Л…СТОПАД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105520" y="4800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В…СЁ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286000" y="4800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5867280" y="3809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зударная гласная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емая ударе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Я»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838080" y="28195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ЗВ…НИТ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838080" y="3809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В…ТЛЯЧОК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838080" y="4800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…ТНЫШКО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105520" y="2819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Т…ЖЕЛО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5105520" y="38098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ЗАМ…СИЛА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105520" y="4800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П…ТЁ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600200" y="4724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5867280" y="27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5867280" y="4724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1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9-01-26T03:03:2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